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move the slide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7C2-E682-48EA-8A7D-3ED0BD59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104-F87C-498A-AE9F-267C3E1B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922B-3BF6-4D61-8A47-E1F84B99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901-6E12-4511-9788-BD764E96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BAD3-96FE-46FB-A486-DFAFA36F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759-DE3F-497A-ADDD-23022C22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1876-64B4-416F-BFE3-208C61B8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E25-918A-4018-8257-CF8CD6CE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7CF-B66A-4821-9013-96F60132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C71-C5ED-41DC-832A-912CFE4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C4D-8DF6-41A1-8523-E92613EF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5BE-8242-440C-A717-0AFB1B32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671-0DFC-4A0F-B616-2B681024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880D-6B22-4F4F-9538-163BB679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A4C5-5CED-4563-B3E1-F5C8E649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749-A8F8-471E-B758-7903923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D6B1-655B-46CD-9CDA-C96A89F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25B7-8973-473A-A0E8-6DDD57A2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32D1-E8D0-458B-9A2F-D35C1A0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198-A497-49F9-8C57-58DB79E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1F8-899A-4909-AF3F-E5E3A67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726-E814-40CB-BF13-30FD9D7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417-2483-4C5E-868D-06CBDE9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5F9E-09AE-4D2A-99C6-7BFAB93E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41C1-134C-4F97-95F0-E8B25D4D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C08-EAA2-4897-808E-B9E3A81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503-302E-4ED3-9DA3-A6A5036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915-D5D2-4952-85EF-6E9879C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DBE-1A0C-4F3C-9F67-17392F4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A2A-673D-48D9-B7EF-2C99543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0AD-5FE4-4379-8F34-5578FEC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EB8-6883-4E95-8522-FFCD0C65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D84-2ECD-4E6C-B091-BB1220C6A59C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Click to edit the title text format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SzPct val="1124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4EB9-0CD0-4565-8230-6D76436AAED9}" type="slidenum"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pic>
        <p:nvPicPr>
          <p:cNvPr id="92" name="Picture 6" descr="Flag of Brazil"/>
          <p:cNvPicPr/>
          <p:nvPr/>
        </p:nvPicPr>
        <p:blipFill>
          <a:blip r:embed="rId1"/>
          <a:stretch/>
        </p:blipFill>
        <p:spPr>
          <a:xfrm>
            <a:off x="2163600" y="198108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istoric of Biodiesel in 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1975 - Starts Plan Production of Vegetable Oils for Energy Purposes (PROÓLEO) . Mixture compulsory 30% in diesel fuel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1980 - Brazil was among the first countries to register a patent for production of fuel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Historic of Biodiesel in Brazil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PROÓLEO was never actually implemented, having been replaced by National Alcohol Program (PROÁLCOOL)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2004 - the Federal Government launched the National Program of Biodiesel Production and Use (PNPB)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PNPB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ims to stimulate the production of biodiesel from various oil source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Promote social inclusion, and ensure competitive prices, quality and supply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s based in a in three perspectives: environmental, social and marketing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Law 11.097/05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fter being sanctioned Law 11.097/05, biodiesel production in Brazil began to take shape in fact. 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It is permitted to add 2% biodiesel (B2) to mineral diesel, from voluntary to compulsory admixture from 2008, reaching minimum levels of 5% (B5) from 2013 onward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iodiesel Produc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Biodiesel can be obtained through the following processes: esterification, cracking and transesterification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SzPct val="1388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Transesterification is the most commonly used because have more technological development in relation to others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21b"/>
                </a:solidFill>
                <a:latin typeface="Geneva"/>
              </a:rPr>
              <a:t>Biodiesel Production</a:t>
            </a:r>
            <a:endParaRPr b="0" lang="en-US" sz="4400" spc="-1" strike="noStrike">
              <a:solidFill>
                <a:srgbClr val="48221b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Biodiesel is obtained by reacting vegetable oils with an active intermediate formed by reaction of an alcohol with a catalyst.</a:t>
            </a:r>
            <a:endParaRPr b="0" lang="en-US" sz="3200" spc="-1" strike="noStrike">
              <a:solidFill>
                <a:srgbClr val="000000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"Brazil dominates the technology to produce biodiesel completely renewable, with use of ethanol from sugar cane in place of methanol (derived from oil) during the transesterification process."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2:45:01Z</dcterms:created>
  <dc:creator>Judd Larson</dc:creator>
  <dc:description/>
  <dc:language>en-US</dc:language>
  <cp:lastModifiedBy>Benevides</cp:lastModifiedBy>
  <dcterms:modified xsi:type="dcterms:W3CDTF">2010-11-01T14:24:19Z</dcterms:modified>
  <cp:revision>26</cp:revision>
  <dc:subject/>
  <dc:title>PowerPoint Presentation</dc:title>
</cp:coreProperties>
</file>